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9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5.wmf" ContentType="image/x-wmf"/>
  <Override PartName="/ppt/media/image27.jpeg" ContentType="image/jpeg"/>
  <Override PartName="/ppt/media/image3.png" ContentType="image/png"/>
  <Override PartName="/ppt/media/image17.jpeg" ContentType="image/jpeg"/>
  <Override PartName="/ppt/media/image28.jpeg" ContentType="image/jpeg"/>
  <Override PartName="/ppt/media/image26.jpeg" ContentType="image/jpeg"/>
  <Override PartName="/ppt/media/image24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A23-0DBE-47ED-A75C-658BC9E1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72D-BD86-4DFF-9B31-E21D8D1F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BD7-8430-4DCB-A86C-00D9E0E3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1C4-7121-4BA4-B92F-751ED418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F27-1E6A-434B-B6F4-D954A5FA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B4C-5F81-4FFA-82C8-41AFEF29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F21-ED77-4360-9F17-4AB1737F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1D4-EB73-44FC-A3F4-4BE3F1B3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CF3-EAA5-49D3-B93E-796C78A7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FA3-9F51-43D0-A7E4-371C9A27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73F-E137-45C5-83D4-2A613B70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BC1-9582-4FF1-8BBA-85400A34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B838-D05C-4F39-90E5-B24E0C314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b/Quake_epicenters_1963-98.pn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r.wikipedia.org/sr-el/&#1057;&#1083;&#1080;&#1082;&#1072;:Sanfranciscoearthquake1906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r.wikipedia.org/sr-el/&#1057;&#1083;&#1080;&#1082;&#1072;:Capt.tok82007161021.japan_quake_tok820.jpe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znanje.org/i/i25/05iv02/05iv0210/galerije/galerija%20opste/opste%20(1)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znanje.org/i/i25/05iv02/05iv0210/galerije/galerija%20opste/opste%20(52)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r.wikipedia.org/sr-el/&#1057;&#1077;&#1076;&#1080;&#1084;&#1077;&#1085;&#1090;&#1085;&#1077;_&#1089;&#1090;&#1077;&#1085;&#1077;" TargetMode="External"/><Relationship Id="rId2" Type="http://schemas.openxmlformats.org/officeDocument/2006/relationships/hyperlink" Target="http://sr.wikipedia.org/sr-el/Pla&#382;a" TargetMode="External"/><Relationship Id="rId3" Type="http://schemas.openxmlformats.org/officeDocument/2006/relationships/hyperlink" Target="http://sr.wikipedia.org/w/index.php?title=&#1044;&#1080;&#1085;&#1072;_%28&#1056;&#1077;&#1113;&#1077;&#1092;%29&amp;action=edit&amp;redlink=1" TargetMode="External"/><Relationship Id="rId4" Type="http://schemas.openxmlformats.org/officeDocument/2006/relationships/hyperlink" Target="http://sr.wikipedia.org/w/index.php?title=&#1051;&#1077;&#1089;&amp;action=edit&amp;redlink=1" TargetMode="External"/><Relationship Id="rId5" Type="http://schemas.openxmlformats.org/officeDocument/2006/relationships/hyperlink" Target="http://sr.wikipedia.org/sr-el/&#1055;&#1077;&#1089;&#1072;&#1082;" TargetMode="External"/><Relationship Id="rId6" Type="http://schemas.openxmlformats.org/officeDocument/2006/relationships/hyperlink" Target="http://sr.wikipedia.org/sr-el/1964" TargetMode="External"/><Relationship Id="rId7" Type="http://schemas.openxmlformats.org/officeDocument/2006/relationships/hyperlink" Target="http://sr.wikipedia.org/w/index.php?title=&#1053;&#1080;&#1080;&#1075;&#1072;&#1090;&#1072;&amp;action=edit&amp;redlink=1" TargetMode="External"/><Relationship Id="rId8" Type="http://schemas.openxmlformats.org/officeDocument/2006/relationships/hyperlink" Target="http://sr.wikipedia.org/sr-el/&#1032;&#1072;&#1087;&#1072;&#1085;" TargetMode="External"/><Relationship Id="rId9" Type="http://schemas.openxmlformats.org/officeDocument/2006/relationships/hyperlink" Target="http://sr.wikipedia.org/sr-el/&#1040;&#1113;&#1072;&#1089;&#1082;&#1072;" TargetMode="External"/><Relationship Id="rId10" Type="http://schemas.openxmlformats.org/officeDocument/2006/relationships/hyperlink" Target="http://sr.wikipedia.org/w/index.php?title=&#1057;&#1077;&#1080;&#1079;&#1084;&#1086;&#1083;&#1086;&#1075;&amp;action=edit&amp;redlink=1" TargetMode="External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d/2004-tsunami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sr.wikipedia.org/sr-el/&#1050;&#1072;&#1096;&#1084;&#1080;&#1088;" TargetMode="External"/><Relationship Id="rId2" Type="http://schemas.openxmlformats.org/officeDocument/2006/relationships/hyperlink" Target="http://sr.wikipedia.org/sr-el/2005" TargetMode="External"/><Relationship Id="rId3" Type="http://schemas.openxmlformats.org/officeDocument/2006/relationships/hyperlink" Target="http://sr.wikipedia.org/sr-el/&#1055;&#1072;&#1082;&#1080;&#1089;&#1090;&#1072;&#1085;" TargetMode="External"/><Relationship Id="rId4" Type="http://schemas.openxmlformats.org/officeDocument/2006/relationships/hyperlink" Target="http://sr.wikipedia.org/sr-el/&#1048;&#1085;&#1076;&#1080;&#1112;&#1072;" TargetMode="External"/><Relationship Id="rId5" Type="http://schemas.openxmlformats.org/officeDocument/2006/relationships/hyperlink" Target="http://sr.wikipedia.org/sr-el/&#1040;&#1074;&#1075;&#1072;&#1085;&#1080;&#1089;&#1090;&#1072;&#1085;" TargetMode="External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r.wikipedia.org/sr-el/2005" TargetMode="External"/><Relationship Id="rId2" Type="http://schemas.openxmlformats.org/officeDocument/2006/relationships/hyperlink" Target="http://upload.wikimedia.org/wikipedia/commons/e/e0/Magnitude_7_6_-_PAKISTAN_20051008035038_gul_pakistan_quake_margalla_towers_210_eng_8oct05_0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seismo.cg.yu/6_3.html" TargetMode="External"/><Relationship Id="rId2" Type="http://schemas.openxmlformats.org/officeDocument/2006/relationships/hyperlink" Target="http://www.seismo.cg.yu/6_3.html" TargetMode="External"/><Relationship Id="rId3" Type="http://schemas.openxmlformats.org/officeDocument/2006/relationships/hyperlink" Target="http://www.seismo.cg.yu/6_3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MLJO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5241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30440" y="2535120"/>
            <a:ext cx="40831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70280" y="1600200"/>
            <a:ext cx="340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Слика:Quake epicenters 1963-98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7620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an Francisko 19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Потрес у Сан Франциску 1906. год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627200"/>
            <a:ext cx="52578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AŠIVAZAKI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16.07.2007.Земљотрес у Кашивазакију (Јапан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7960" y="1447920"/>
            <a:ext cx="2976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Los Anđeles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00200" y="1569960"/>
            <a:ext cx="55720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1619280"/>
            <a:ext cx="5372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1765440"/>
            <a:ext cx="73911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1728720"/>
            <a:ext cx="53341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829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Zemljotr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potr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s izazi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ni tektonski pokreti duž uzdužnih i poprečnih rasednih lini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upcije vulka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ušavanje stena u podzemnim kanali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 meteorita i d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88604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343240"/>
            <a:ext cx="556272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819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067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1438200"/>
            <a:ext cx="40669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ZANJE T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зање т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љотреси могу активирати покретање тла на падинама (клизањ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ламање камених блокова и настанак одрон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ретање лавина које могу у брдско планинским пределима нанети велику материјалну штету и угрозити људске жив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ož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ри могу бити пратиоци земљотреса при чему они обично могу бити изазвани кидањем електричних водова и гасних инфраструктурних права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EIZMOLOGIJA 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nauka o zemljotres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ala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 duž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a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rzina prostiranja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ala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kvefakcija tl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ubljenje nosivosti t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led natapanj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anja pornog pritiska pri potresima t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Obično se javlja u nevezani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diment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eskovima holocenske starosti, zasićenim vodom i debljine ne manje o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Ovakve naslage se često javljaju pored reka, to su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laž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ože se javiti i u terenima koji grad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es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ko je ova pojava odavno poznata, pogotovo njeno negativno dejstvo, kada tlo potpuno gubi nosivost, tek j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9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kon zemljotresa u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iiga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Japa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ljas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očeno njeno razorno dejstvo od stran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eizmolo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građevinskih inženj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nami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u 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dijskom Okeanu 200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dmorsko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atransko-Andamanskog zemljotre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strada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75.000 ljudi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orio obalu nanevši velike štete od Indonezije sve do Somalije u Africi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smrtonosnijih prirodnih katastrofa u modernoj istorij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tude zemljotres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epen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htero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ka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rugi najveći potres ikadazabilježe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izmograf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nami tal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1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astradali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75 miliona dolara stete na Havaji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8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astra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h i 50 miliona dolara stete u Japanu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astra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h i nestalih na Filipinim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ajland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Слика:2004-tsunam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00200"/>
            <a:ext cx="7010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umatra 2004-p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52560" cy="69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umatra 2004-pos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6675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ters u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šmir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0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 epicentrom u delu Kašmira po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kistansk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pravom, magnitude 7,6 stepena po Rihterovoj skali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s je ubio oko 90.000 ljudi najviše u Pakistanu, zati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d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vganista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k je oko 3 miliona ljudi ostalo bez krova nad glav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ašmir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Слика:Magnitude 7 6 - PAKISTAN 20051008035038 gul pakistan quake margalla towers 210 eng 8oct05 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33720" y="2133720"/>
            <a:ext cx="54194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jsnazniji registrovani zemljotres u svetu </a:t>
            </a:r>
            <a:br>
              <a:rPr sz="4000"/>
            </a:b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le 1960. god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d 9.5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tepen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ihterov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ka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astradal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od 2.000 ljudi, 200.000 ljudi je ostalo be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uć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rusne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811160"/>
            <a:ext cx="724860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EIZMOGR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IZM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28960" y="2190600"/>
            <a:ext cx="32860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a zemljot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itud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a mera oslobođene energije u zemljotre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hterova sk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 oslobodjene seizmicke energije u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pocent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j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tu zemljot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IX stepen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rkalijev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ka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kazuje r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acko dejstvo zemljotresa na povrsini Zemlj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picent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X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pen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23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2997360"/>
            <a:ext cx="563868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1419120"/>
            <a:ext cx="5114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554688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agoslav</cp:lastModifiedBy>
  <dcterms:modified xsi:type="dcterms:W3CDTF">2008-06-05T20:59:2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